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E92-02C8-4190-9CEE-AABE85B0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720-BC1C-4B90-BDA1-E56A3644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CA3-8EF3-4081-B355-8743D44F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417-74B5-4E70-8248-65AE883A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49E3-7B09-47AC-BE71-7EF310A0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AB06-B7EF-45D3-A215-90C7BED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0325-8912-47C5-98F5-ACBF6D9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86F8-725D-4D32-A3CC-B5C23CD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529-63BB-4C1B-A568-70C280E5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7F07-78CB-4452-ACC2-15BFA652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C40-CD29-42DE-AAF9-05BE920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79B-15A3-45B6-995D-5442EBA0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EF5-E222-42DD-A0A2-36C2FCC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1924-9644-4960-8B53-D5084B3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A189-83E8-4263-8D67-15A1249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8118-B42D-4005-B961-331AB0A4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9F15-1FAA-4D76-BC1B-CD89F9E3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9160-92E5-4DF2-9821-57DF66E0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7FBC-3EED-4F5C-A62F-0FB82985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3501-90CE-4ED9-9F10-9F1613B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5BEE-2D65-43C0-BE64-03622CA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1638-B7A6-4305-9BA8-6589FC0F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23D-B4B8-4A7B-8ECA-0C3DDFD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08D4-4175-40A2-8888-287653D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BAD7-358C-478C-89BF-E150651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FC5E-371F-4883-9BE1-25296A1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04FF-3BFD-4F5A-B7BE-2E88C0C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81B7-FA46-4551-881A-C16CE67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5478-DB73-4E3A-BFBC-B00AE4E9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01F2-9429-49D6-9757-EB6BC1B5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361E-4704-4024-BA14-6DF89A6B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4971-93D5-48C0-96FF-46DDD20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DEA6B-4BA4-4ED1-BD7C-6D555036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35F-BB3A-41A3-BC23-E28DAEB8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D590-1F2D-413F-96C6-9CF747B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3B94-5533-41C3-9081-074518D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D2A2-376D-40BB-8388-948A234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8DA9-C2E3-454F-B685-1BD3F47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AF303-54D3-4A72-9D77-675451A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BA7E-D104-4BBC-AC15-5B61C1B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220A-74C7-4994-B70D-B7DA09F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F7C7-E89B-408E-9E3F-12F0F59D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DA2F-16C1-40D3-A81F-FB4A3F91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554-61A7-4D64-81DF-4B59AC8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680-986E-4B3A-A621-7C01134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19E-5AF1-4A05-B22D-305269A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ABE-F548-42E5-9EFD-4B0E082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53B-8925-44BE-9F5A-FC3BCA0D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094-554A-4511-B1EA-7F610EC5AD4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51A-C9EA-4E49-ADCB-337DD8899F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0D2-AA02-4B7B-80A0-34FD14C0002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000-6F7B-4C51-B6E5-623585AE9AF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89D-9968-432E-9165-8ADD96D266B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A061-D695-4B2A-8CF3-C6B974C9761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0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0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6E6-8B80-4D00-80EE-B0D2AC51AF5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537-99C8-4ADD-9B1A-BB48CE71DA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wshngtn@e-mail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wshngtn@e-mail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cwshngtn@e-mail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cwshngtn@e-mail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04920" y="762120"/>
            <a:ext cx="830556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hristina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100 Somewhere Driv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810) 555-5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town, Michigan 0110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wshngtn@e-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ive: To obtain an entry level position as an Electrical Engin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du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22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WHAT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22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WHERE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22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WHEN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du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School Dipl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s Deg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ced Associates Deg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helors Deg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sters Deg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al Deg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du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ERT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rtified Trai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cational Trai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ing Certif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Certificates indicating educational trai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emember to stick to the What/Where/When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du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OTHER ITEMS TO INCLUD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ademic Majors and Min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? Grade Point Averages ?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evant  Cours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nly if it’s related in some way to the job you’re applying fo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ist it as a subheading under EDUC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on’t list everything and Don’t list course numb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457200" y="843120"/>
            <a:ext cx="8153280" cy="58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hristina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100 Somewhere Driv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810) 555-5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town, Michigan 0110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wshngtn@e-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obtain an entry level position as an Electrical Engin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sociates Degree; Major in Electr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town Community College, Anytown, Mich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ed Coursework in Computers, Technical and Blueprint Reading, and Advanced Circui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 Exper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section is the single most important place to sell yourself to a potential emplo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so many to read, employers often skim resumes, looking f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y job tit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ecific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evant qualif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ways use key words/phrases that clearly and briefly articulate your experi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 Exper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ick to the What/Where/When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kills you include on your resume should be connected to the skills required in the job you are see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skill-related 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nister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rai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mbl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dge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il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duc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rdin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gn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ilit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goti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n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ai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ru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v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ervi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u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l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533520" y="838080"/>
            <a:ext cx="800100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hristina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100 Somewhere Driv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810) 555-5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town, Michigan 0110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wshngtn@e-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obtain an entry level position as an Electrical Engin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sociates Degree; Major in Electr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town Community College, Anytown, Mich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ed Coursework in Computers, Technical and Blueprint Reading, and Advanced Circui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ork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lectrical Apprentice, Anytown Electrical Agency, Antyown Michigan September 200 to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Delivered supplies tot the Associate Electricians on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Assisted Associate Electricians with in-house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day’s 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:00-11:00 The nuts and bolts of resume wr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:00-1145    Small group feedback sess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:45-12:00   Review, wrap-up, and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ailable on Requ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 a list of references on a separate p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ways ask fir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professional information, not pers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Name, title, organization, address, a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 inf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ther Possible Catego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ed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plish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ed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luntee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nors and Aw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erence Presen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sh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52280" y="762120"/>
            <a:ext cx="883944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hristina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100 Somewhere Driv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ork  (810)  555-523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nytown, Michigan 0110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wshngtn@e-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OBJECTIVE: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To obtain an entry level position as an Electrical Engine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EDU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Associates Degre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: Major in Electrical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Anytown Community College, Anytown, Michigan,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Related Coursework: Computers, Technical and Blueprint Reading, and Advanced Circui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WORK EXPERIENC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Electrical Apprentic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 Anytown Electrical Agenc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Antyown Michigan September 200 to pres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*Delivered supplies tot the Associate Electricians on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*Assisted Associate Electricians with in-house 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REFERENCES: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vailable upon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ck Tips for a Better Resu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your name stand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your objective reflect the job you’re applying f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headings and subheadings for organ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What/Where/When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t Education and Work Experience in reverse chronological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bullets to make your experiences stand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ofread, proofread, proofread, proofre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 this session, you will lear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nformation to include on your res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organize your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choose the most appropriate catego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format your res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swers to commonly asked questions about the res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athering/Grouping Inform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five major sections of a resume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ther Possible S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ed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uter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lunteer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nors and Aw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cations/presen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fili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ne number(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ail ad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160" y="1828440"/>
            <a:ext cx="8381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ristina Washingt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100 Somewhere Dr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810) 555-523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ytown, Michigan 0110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wshngtn@e-mail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cates specific position for which you are apply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ple, clear, and conc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not need to be a complete sentence (usually a short, one-line phras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advantage of information from the job advertisement (use key words in your objectiv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be wordy and don’t add unnecessary information Translation:   Don’t blather 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get too “ME” cente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, this is a major h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: To obtain an entry level position in Home Health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: To obtain a position as an Information  Technology Special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: To obtain an advanced level position in Marketing and Fin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4:42:23Z</dcterms:created>
  <dc:creator/>
  <dc:description/>
  <dc:language>en-US</dc:language>
  <cp:lastModifiedBy>Bright</cp:lastModifiedBy>
  <dcterms:modified xsi:type="dcterms:W3CDTF">2013-08-23T10:34:48Z</dcterms:modified>
  <cp:revision>41</cp:revision>
  <dc:subject/>
  <dc:title>HOW TO WRITE A WINNING RESUME</dc:title>
</cp:coreProperties>
</file>